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6AE0-D333-4251-8B1F-5A876FF3F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CFFA-105B-44D0-BE37-87CFBE74B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5C0D-36B3-4E83-ABB4-BBC0F9F68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8DE0-16A7-403F-85D4-5EE1777BB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D235D-A63A-4BF3-AE30-805FBFC1F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B6A73-26F0-4AA9-8218-B3A2315B9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C7B76-7BBF-4B32-B385-CD02A9588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19C2F-0DA5-4994-B2A8-5AF19CA49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4336F-81B5-4254-8B6C-508F8B80D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7E8BE-6A4B-4915-A3DE-45F30F27A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64498-38E8-48F9-B212-E305B99AA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5445-0AFC-4BDE-91B5-AC66843F6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B3386-8735-4124-A490-63599C26C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66465-4E60-48B4-A175-42A2D8A37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25885-DFCE-45B7-8913-012CD52CD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0E0F4-2491-445D-A7D5-5817518F5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1AC19-8781-4D07-ADF1-030B140E1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7FD5-6806-489D-BB8D-CAD3CF731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4609-DCD8-4BE7-B6F1-34814D4A0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9BAB-858A-427C-BBC0-8FB2F326E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D8C1-8461-49C2-BDBD-7A060DFFB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9972-E19D-4C06-A09F-F327F7553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E4D6-58E5-420F-9B49-B98140579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DAC9-AF60-44FE-A5F7-5B17902DA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BA991-6E86-45B6-B5DD-986EB531EB0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FA58F-62E1-483B-87A7-2609CDC5FCE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In The Days of the Judges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arter 3, Lesson 1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udges 12:8 – 14:2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ges 93-9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09480" y="3352680"/>
            <a:ext cx="79250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3716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Samson – the next lesson…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mson tries to get his wife ba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mson’s vengeance on the Philisti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5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0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977240" cy="60912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28195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hrai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12193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ile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248520" y="31240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moni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Jephthah’s Clash With Ephraimites </a:t>
            </a: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Judges 12:1-7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phraimites incensed: Jephthah did not call them to war against the Ammoni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threaten his destruction, v. 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vindicates himself, v. 2-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other charge against the Gileadites, v. 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wo adversaries fought, v. 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ty-two thousand Ephraimites killed at the passages of Jordan, v. 5-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phthah died; judged Israel six years, v. 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23872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5791320" y="762120"/>
            <a:ext cx="20574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Ephraim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095880" y="2286000"/>
            <a:ext cx="1600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Gilead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590560" y="1295280"/>
            <a:ext cx="2971800" cy="25909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3428640" y="2743200"/>
            <a:ext cx="2438280" cy="7621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The Next Three Judges -</a:t>
            </a:r>
            <a:br>
              <a:rPr sz="4000"/>
            </a:b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Judges 12:8-15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b’zan: judged for seven years, v. 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s posterity and death, v. 9-1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’lon: judged ten years and dies, v. 11-1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don: judged for eight years, v. 1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s posterity and death, v. 14-1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" dur="5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" dur="5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A Coming Judge –</a:t>
            </a:r>
            <a:br>
              <a:rPr sz="4000"/>
            </a:b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Judges 13:1-25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raelites - evil again - delivered into the hands of the Philistines for forty years, v. 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 angel appeared to the wife of Ma’no’ah; foretells the birth of a son, v. 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structed her 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to treat both herself and her s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he would do, v. 2-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e informed her husband, v. 6-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8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3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8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3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8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3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oah prayed for the angel to reappear,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v. 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angel repeated his former instructions, v. 8-1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oah made an offering to the Lord; the angel ascended in the flame, v. 15-2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oah is alarmed, but comforted by the judicious reflections of his wife, v. 21-2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mson born; the spirit of the Lord began to move him, v. 24-2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A Coming Judge –</a:t>
            </a:r>
            <a:br>
              <a:rPr sz="4000"/>
            </a:b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Judges 13:1-25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0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5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0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5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0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3716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Samson’s - Weaknesses And Strength </a:t>
            </a: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(Judges 14:1-20)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mson desires a Philistine for a wife, v. 1-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lew a young lion at Tim’nath: later, he found bees and honey in the carcass, v. 5-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mson’s father went to prepare for the marriage, v. 10-1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son made a fea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ide’s parents gave him thirty compan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puts forth a riddle to them and they could not expound 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7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2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7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2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7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2" dur="5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3716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Samson’s - Weaknesses And Strength </a:t>
            </a: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(Judges 14:1-20)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enticed his wife to get the interpretation of the riddle, v. 15-1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e succeed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e informed the compan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gave the answer to Sams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is incensed with his wife and his companions, v. 1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lew 30 Philistines for their cloth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nt back home to Zora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s wife was given to his “best man”, v. 2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9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4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7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0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5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0" dur="5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3" dur="5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8" dur="500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4T15:49:30Z</dcterms:created>
  <dc:creator>Terry W. Benton</dc:creator>
  <dc:description/>
  <dc:language>en-US</dc:language>
  <cp:lastModifiedBy>Frank D Vines</cp:lastModifiedBy>
  <dcterms:modified xsi:type="dcterms:W3CDTF">2005-02-22T17:31:18Z</dcterms:modified>
  <cp:revision>10</cp:revision>
  <dc:subject/>
  <dc:title>In The Days of the Judges</dc:title>
</cp:coreProperties>
</file>